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6F99-EA17-45F9-A740-1A0A056CF1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2EC3-FC01-4078-9363-EBEE40C9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DC2-3CF6-4458-BFBD-DE2E487F6D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58BD-A6A3-4074-9E0C-8D8F0B9CC1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9C70-5EC0-45B3-B03A-59A9A3DDA0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BAA9-ED84-451F-ABE6-770BF879B5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0FB-B01D-49AC-8662-82F24A740E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EF8C-0724-448E-AB1D-D638EBB818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18E-422E-43A2-A80F-2A50627B0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FF2-209E-4BBB-9720-4D39229052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7B4-9373-46F4-A39D-F912F1EDB9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F3C-5A81-49B0-A4A0-51799247D8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F85-40DC-4E64-AE4F-AF75171592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D9F-58FD-4D4C-B7B3-56CBEE5533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4D9D-0A00-4A85-AA2B-A7705F5423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B14F-764D-4008-876D-7D1B8F86DC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8681-4C90-4B83-9D16-314DC2438D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95DB-FF5A-4F9B-8C87-F2E62B1CD1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50A-6C86-49B3-AB90-75A9265C7E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3D1-D2DE-4ABD-96FE-309DFC23AD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2A23-14EB-412F-9453-C93618AEFB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Français 3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6386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2133720" y="2406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653080" y="2395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057400" y="241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55198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133720" y="2421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410080" y="2424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676520" y="2419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5715000" y="2405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1225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531648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</a:t>
            </a:r>
            <a:r>
              <a:rPr b="0" lang="ja-JP" sz="2800" spc="-1" strike="noStrike">
                <a:solidFill>
                  <a:srgbClr val="525a28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182880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576760" y="24098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2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5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7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0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3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</a:t>
            </a:r>
            <a:r>
              <a:rPr b="0" i="1" lang="ja-JP" sz="5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7f5b"/>
                        </a:gs>
                        <a:gs pos="100000">
                          <a:srgbClr val="00db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04T00:16:15Z</dcterms:modified>
  <cp:revision>93</cp:revision>
  <dc:subject/>
  <dc:title>Allez, viens! – Level 2</dc:title>
</cp:coreProperties>
</file>